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F6F-45C1-4B1A-9AA4-B5F6281C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BB2-9789-4A5B-A5F2-624D604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EF2-CEAB-46AF-BEC4-DD0BB4A9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CC5-432F-4521-B094-B8DFB52A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12A-5D13-4187-A148-36907C88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FEF-D26A-4A31-86C7-F8A6431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810-0FC5-471C-BDCA-E229071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935-162F-4CBE-AD46-B9A4935F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69A-AC13-4ABA-B787-A5814EB1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ECD-649E-4DA2-9E1D-6AF020F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DD8-AC07-4134-A4F9-C7433DC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E55-A000-4A29-9D22-9DCF68F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C91A-8B0F-4DCF-9A7B-87BB6FB2DB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uk.wrs.yahoo.com/_ylt=A0geumcps.1E1OQABEFNBQx./SIG=1giitmoh2/EXP=1156514985/**http%3A//uk.search.yahoo.com/search/images/view%3Fback=http%253A%252F%252Fuk.search.yahoo.com%252Fsearch%252Fimages%253Fp%253Ddecay%252Bdeath%2526ei%253DUTF-8%2526fr%253Dbtfp-img%2526x%253Dwrt%26w=189%26h=250%26imgurl=www.spookyplanet.com%252FSPNew%252Fhorror_masks%252Fimages%252Fdecay_du528-l.jpg%26rurl=http%253A%252F%252Fwww.spookyplanet.com%252FSPNew%252Fhorror_masks%252Fdecay_du528.html%26size=12.8kB%26name=decay_du528-l.jpg%26p=decay%2Bdeath%26type=jpeg%26no=2%26tt=475%26oid=2ba495a2fff3045c%26ei=UTF-8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es thèmes du réci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7417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2781360"/>
            <a:ext cx="259236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Irrationality of Univers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26828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Meaningless of lif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134136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Physical Worl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414972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Death and Deca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414972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Watch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5445000"/>
            <a:ext cx="259236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Tekton"/>
              </a:rPr>
              <a:t>Innocence and Guil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340000" y="2491920"/>
            <a:ext cx="287280" cy="289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075280" y="2565360"/>
            <a:ext cx="360360" cy="216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55640" y="3573360"/>
            <a:ext cx="14292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3573360"/>
            <a:ext cx="0" cy="18716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0920" y="3573360"/>
            <a:ext cx="433080" cy="576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808200" cy="606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893880" cy="647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581360"/>
            <a:ext cx="519120" cy="6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724360" y="4508640"/>
            <a:ext cx="816120" cy="815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348000" y="5877000"/>
            <a:ext cx="8352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Steve Badger</cp:lastModifiedBy>
  <dcterms:modified xsi:type="dcterms:W3CDTF">2006-08-24T14:13:49Z</dcterms:modified>
  <cp:revision>3</cp:revision>
  <dc:subject/>
  <dc:title>Les thèmes du récit</dc:title>
</cp:coreProperties>
</file>